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7521-7AC1-4D10-A06E-202C789E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1E87-62E4-492E-99D1-592BD686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680F-3F0D-48B5-B0B5-88C9DD16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420-1C17-4BC4-AC1D-BE06A6B9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A85-5FF6-46EE-9C8A-9BB7A5D9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76DA-4B2C-4ABD-925B-02DEAB53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4782-C5CF-4925-AEC8-F69D9418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5C79-A7F8-48DC-BB8D-2B8326D0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41B4-FBE4-48F2-9E88-D08116EB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C32-BD4C-467F-B3EB-03AF1F94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A857-98F2-4282-B9FD-5090BA62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30E7-0A71-48EB-9FBB-7BB0678F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74B8-61B7-4006-B712-A470071FE21D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Jerry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Kick off workshop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Agenda</a:t>
            </a:r>
            <a:endParaRPr b="1" lang="en-US" sz="7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28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Lars Bonde, XinJuan Song, Arjen Broe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2-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recondition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setup (handover timeline preferences) per department agreed (detailed handover planning will be discussed in the workshop) (week 6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W estimation finished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lanning for “Work” is determined by SW, HW and S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imavera access for all PPL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Monday 13.02.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0:00 – 10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Introduction / background (Koh Kheng Wah – 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0:30 – 11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Jerry way forward (Dirk Didascalou – 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1:00 – 11:15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urrent project setup (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Organisation – Set-up BEJ and AAL – PL-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Communication scenarios, mailing lists PL-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1:15 – 12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ject status (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Status HW/MD/ID – Aalborg – HW-PP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Status SW – Beijing – SW-PP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efine process (tailoring) – Thomas Bartel, Brian Mortensen (WJB 6121, 6909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Milestones for HW/SW/ST (Scrum?? – How to implement in the system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Synchronization point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Define key activities (must have) for each milestones and nice to have’s (based on MEP 7.02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Tuesday 14.02.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9:00 – 17:00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or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plit in 3 main groups:  HW/MD/PE, SW and S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W: define work packages, feasibility study, IM scenario, contractors, contracts, Scrumm milestone approa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tailed schedule in separate fi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Location: WJ-C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HW/MD/PE: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eview stack-up concept, mechanical design, layout, part list, BOM, supplier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chedule will be determined on Monda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Location WJ-B 6121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T: HW performance test, TA, Cradle/fixture, Test spec, R&amp;D suppor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chedule in next slid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Location: WJ-B 6909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6:00 – 17:00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totype shops (LCM1 &amp; 3) (WJB 6126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e which prototype runs take place where / define handover (TELCO with KlF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T schedule Tuesday (WJ-B 6909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9:00-10:3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chedule (TA) review and calculat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0:30-10:4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a brea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0:40-12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st plan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orkload distribut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2:00-13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3:00-15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st plan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orkload distribut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5:00-15:1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a break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5:10-17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&amp;D support  and Cradle / Fixture prepar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ST schedule Wednesday (WJ-B 6909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09:00-10:3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st spec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0:30-10:4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a brea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0:40-12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&amp;D suppor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0e66"/>
                </a:solidFill>
                <a:latin typeface="Minion"/>
              </a:rPr>
              <a:t>Wednesday 15.02.06</a:t>
            </a:r>
            <a:endParaRPr b="0" lang="en-US" sz="4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9:00 – 12:00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ontinue with work started on Tuesda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14:30 – 17:00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reate handover planning (PPL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Detailed step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MD and PE will visit Perlos in BEJ all day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hursday 16.02.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00 – 9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ummary Wednesda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30 – 10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 clearing (Zeng Yun) (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Attendees PL-T, CPM, TPM, PL-SW, PL-MD, PL-HW, PL-BB, PL-LPD, PL-RF, PL-EA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9:00 – 12:00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Project planning per department (PL-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Create planning per department and define dependenc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Input planning in PV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13:30 – 16:00</a:t>
            </a: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Optimize planning (PL-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Based on input from work-days and dependenc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Create committed milestone planni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Visit in BEJ office from keypad suppliers for MD and P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16:00 - 17:30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Conclusion (PL-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Identify open action items and plan activit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How far are we from S0/M1?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Benq</cp:lastModifiedBy>
  <dcterms:modified xsi:type="dcterms:W3CDTF">2006-02-15T09:05:02Z</dcterms:modified>
  <cp:revision>120</cp:revision>
  <dc:subject/>
  <dc:title>PowerPoint</dc:title>
</cp:coreProperties>
</file>